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DBD8-6ED2-4BD3-8231-2D8E476F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4424-ED63-479D-AB52-9DE80EE4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C62F-1D97-42EC-A3C3-3EA3CAD6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DBFE-508B-4FD4-87BE-F40E748B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0B9C-75BD-4810-B4A4-2D6987D3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A788-D00A-4564-89C4-CA9FCA2F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E018-B567-4C31-A256-E6801A28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C4B9-6A79-48BD-8AED-6FA89C4E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095E-A857-4E83-91EC-5B0E401D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E29A-2D09-4597-AF5C-195CF82C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F31C-9F1E-44B8-A265-C050034F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E87F-9CE5-4C85-B5BF-8CC2ECDE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41D7-D693-4C54-9AE2-CF50DCFD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8235-2F59-4DA0-8CC5-FD9B8D72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AC54-767F-4E07-95DB-030079BF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B3E7-4950-449E-AA19-DE6CA21B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B260-E522-4A18-A0A1-2B3D9C2B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EEDBB-B402-4C90-8AA3-48CDA2DA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7BE6B-E508-4A80-AFA9-D9FE9E35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091B1-8ECF-416F-82C7-1E07CBD3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F97C9-0841-4FCC-ABD3-C8B3F8F4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EA22E-3452-472A-88F8-10BC5E6A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8263-A731-4F45-839C-4162867C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3C38D-697F-40B7-978E-24366000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E9EDC-6392-4C00-BEF5-2B48E5B5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E2A1F-AF4F-4091-A774-1A77DE1F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7B7C5-2926-4C31-9A37-672E865B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DEC97-B95B-4366-B3A2-C17C1929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F9535-D859-4F67-99CD-6FB49ACF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CCAF1-9D9E-423E-9D0A-CD18C6F7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85325-1776-4B14-9CC7-9B62A0D7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0AE0A-99A2-4CB3-A853-C476DC99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97690-F414-48F3-B4E4-29A5A20A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F791-CFB4-4E37-B546-99AA8078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96496-5044-4CA3-A031-5F16E762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0938C-E703-49C4-A274-FD390667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CCEFC-452A-4D5D-B03B-7653B63E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244F1-98FB-48A7-A633-1AE8AD06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1D11E-B1C5-4EEA-A2AC-438D23F5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1A8F6-216C-4392-8E8D-D1818DE7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8C379-D2B4-4317-AD1B-6B11676A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3EEA0-3752-41DD-BCED-52B045BA3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E6B2E-6136-48C2-AF60-11764103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1E6AC-EF39-4230-960D-B5D0D2D9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8D29-712B-41EB-8FA0-D969DDDA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B4A3F-0471-4AFC-82F5-01EC9BF8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240CD-83EA-410E-B66A-73A796C3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99BAB-0D55-4BBF-91B7-25DF9A61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58012-BC2D-4F6C-ADC8-0743825B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76A48-313C-499F-BF0A-B820876E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63352-ED1F-4C23-A9C2-8D457374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5541C-8238-4139-873E-EDC6CA2F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B7C29-E64C-4996-BA51-46E3AD6D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8DEB6-006F-417E-BCB3-9BF49671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27AE4-371D-4B7B-AF1D-44FD63E6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2BF8-1631-4FD1-A571-58B2A517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2EFF4-ECA8-482E-AAD5-0D4298E2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8EC5B-E122-44C7-806A-40485D635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BF5CB-FCFE-4805-A80E-69537A01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4581F-D2C0-4B1C-9EEF-1B374792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705EC-EEED-4BBD-85D1-F18AC1FF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C6E25-0EAE-4365-B01C-E82DE89C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52432-3876-4B8A-A084-F697495E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5A2FE-7AE1-44FD-984B-4921FFA7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ED3B4-3B30-4815-85EB-7E57936E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A845A-B328-4630-B3EB-31B0F479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C01C-132B-4001-B58E-D64FE94A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008F3-8BE3-477D-B68A-D8A46B94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2D4E1-F6FC-4951-B165-989435BA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1083B-BDD0-43D8-A14B-4620C60D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A290D-89D7-41EB-A0E4-FC5504EC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F3852-4DEE-4554-838D-01DA65A3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5282A-5CC9-4AEE-AEAB-1780A756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B24A4-C5E7-4A71-B021-DF235FF9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EA202-3FBB-4203-B123-05279E90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07C37-6C51-4B7C-80A4-0E903A10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A3E3C-25FE-4E5B-88A3-D426F66C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91B3-8C92-49AE-B2E3-1B212A14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2BDAB-89F2-43FA-A1E3-499987A7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0B80D-DC45-4CBB-86ED-C34C0CF6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E9319-E11E-491B-A5F1-2D216859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E542C-7567-4CEB-B341-C1EA4CF3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9511C-6853-442F-9A62-9D318FE1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F3EFA-8141-404C-A305-EDA0F078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B017D-CD2E-4DCC-9E89-FB1050A1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21157-1099-469C-AA4B-B0B77602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E1873-55E5-4C4F-ADB5-86793433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6DEA6-0BFD-4408-AD20-1E8EE033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731B-3CEF-41A4-A91C-BDEEC2DE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FF6AF-3B11-44D8-B77E-CF8A034C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416F5-0503-4FD7-B1A5-317EC70B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A90F1-0BA6-4C05-9E91-A75DD857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B28BE-069D-4CAC-8DD3-AD588DFB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4467C-7D19-404B-9DA2-6439959A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F1FE5-D732-4A6A-85A1-C9D96A68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ED958-3BB2-42E1-A241-7CB4B534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B131-658E-4459-B14A-DAD49404D17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86D9-AF10-4D53-85F7-464921B5190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5A3C-A822-4671-8E81-0F90C0179459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F3CC-907B-426B-A8F5-D00AC8B7A3ED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D4D5-2B95-4FC6-A4BC-D02C82A3132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2712-7C30-4A4E-ACC3-249C4B7CEF0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D1F3-877B-4EEA-AEBC-35ADE1644AC4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CAFC-9156-4777-BD07-C986807AE7D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2012 AP English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Literature and Composition Result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O’Gorman High Schoo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sul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2057400"/>
          <a:ext cx="8229600" cy="1482840"/>
        </p:xfrm>
        <a:graphic>
          <a:graphicData uri="http://schemas.openxmlformats.org/drawingml/2006/table">
            <a:tbl>
              <a:tblPr/>
              <a:tblGrid>
                <a:gridCol w="2895480"/>
                <a:gridCol w="990720"/>
                <a:gridCol w="1143000"/>
                <a:gridCol w="1066680"/>
                <a:gridCol w="1067040"/>
                <a:gridCol w="10666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Overall Score Distrib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umber of O’Gorman Stu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% Students at O’Gor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% Students Global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  <p:sp>
        <p:nvSpPr>
          <p:cNvPr id="356" name="TextBox 4"/>
          <p:cNvSpPr/>
          <p:nvPr/>
        </p:nvSpPr>
        <p:spPr>
          <a:xfrm>
            <a:off x="304920" y="419112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38.9% of O’Gorman students scored a 4 or 5 while only 26.3% scored a 4 or 5 glob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No student at O’Gorman scored lower than a 3 on the ex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ree Response 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457200" y="1752480"/>
          <a:ext cx="8229600" cy="2027520"/>
        </p:xfrm>
        <a:graphic>
          <a:graphicData uri="http://schemas.openxmlformats.org/drawingml/2006/table">
            <a:tbl>
              <a:tblPr/>
              <a:tblGrid>
                <a:gridCol w="4648320"/>
                <a:gridCol w="1143000"/>
                <a:gridCol w="1218960"/>
                <a:gridCol w="1219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Question/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ax Possible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lobal 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 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p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  <p:sp>
        <p:nvSpPr>
          <p:cNvPr id="359" name="TextBox 4"/>
          <p:cNvSpPr/>
          <p:nvPr/>
        </p:nvSpPr>
        <p:spPr>
          <a:xfrm>
            <a:off x="457200" y="3962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’Gorman students had higher means in each response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ultiple Choice 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457200" y="1981080"/>
          <a:ext cx="8229600" cy="2001960"/>
        </p:xfrm>
        <a:graphic>
          <a:graphicData uri="http://schemas.openxmlformats.org/drawingml/2006/table">
            <a:tbl>
              <a:tblPr/>
              <a:tblGrid>
                <a:gridCol w="4800600"/>
                <a:gridCol w="1143000"/>
                <a:gridCol w="1143000"/>
                <a:gridCol w="1143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ntent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umber of Ques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lobal 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 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.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-2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Century Lit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e-2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Century Lit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</a:tbl>
          </a:graphicData>
        </a:graphic>
      </p:graphicFrame>
      <p:sp>
        <p:nvSpPr>
          <p:cNvPr id="362" name="TextBox 7"/>
          <p:cNvSpPr/>
          <p:nvPr/>
        </p:nvSpPr>
        <p:spPr>
          <a:xfrm>
            <a:off x="457200" y="44956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’Gorman students had higher means in each response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Historical Comparis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457200" y="1447920"/>
          <a:ext cx="8229600" cy="39780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str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tal in 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ean Score (Out of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% Score 3 or Hig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hon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4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4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21:29:07Z</dcterms:created>
  <dc:creator>Administrator</dc:creator>
  <dc:description/>
  <dc:language>en-US</dc:language>
  <cp:lastModifiedBy>Administrator</cp:lastModifiedBy>
  <dcterms:modified xsi:type="dcterms:W3CDTF">2012-07-26T20:13:35Z</dcterms:modified>
  <cp:revision>8</cp:revision>
  <dc:subject/>
  <dc:title>2011 AP English  Literature and Composition Results</dc:title>
</cp:coreProperties>
</file>